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fastcar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3C5-7448-41D2-B450-D70A092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48C-1B3B-4B98-A714-3B2BF0A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FA4-24A8-42FE-B18F-5FF145FB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AE9-69BF-4D36-BCFB-773FB8E0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6FD-0567-43DC-B411-FA9FC99E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03B-46FA-42D8-AB8F-1F80BD6D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2DE-AE2B-4E35-8F6C-8156D49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ABB-22A8-447D-9D90-7AD57756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39E-33E3-4093-8E1A-B29221D5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BCF-EA4E-46E5-80FF-F286EBF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3E3-48F9-420D-8A75-F754B92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415-F046-4ABF-A389-88FEA9AA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4D38-08DC-4629-BD1B-C7840DCD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fastca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62160" y="1900080"/>
                <a:ext cx="5259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400480" y="2654280"/>
                <a:ext cx="457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475240" y="2717640"/>
                <a:ext cx="449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55680" y="5102280"/>
                <a:ext cx="42418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95320" y="1871640"/>
                <a:ext cx="5994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20</m:t>
                    </m:r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74920" y="2629080"/>
                <a:ext cx="507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452920" y="2739960"/>
                <a:ext cx="493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87400" y="1860480"/>
                <a:ext cx="5372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  and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9520" y="2730600"/>
                <a:ext cx="507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489640" y="284796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579760" y="5046840"/>
                <a:ext cx="3394080" cy="96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25400" y="1871640"/>
                <a:ext cx="6334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22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22640" y="2629080"/>
                <a:ext cx="812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64000" y="2739960"/>
                <a:ext cx="673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33240" y="1960560"/>
                <a:ext cx="7012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3  and  </m:t>
                    </m:r>
                    <m: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08200" y="2759040"/>
                <a:ext cx="50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85840" y="2789280"/>
                <a:ext cx="1339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03240" y="5522760"/>
                <a:ext cx="50356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65360" y="3421080"/>
                <a:ext cx="860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5E-006 5.78035E-007 L 0.62864 -0.46289 E">
                                      <p:cBhvr>
                                        <p:cTn id="16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4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 If yes, 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9640" y="1860480"/>
                <a:ext cx="76345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33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50960" y="2774880"/>
                <a:ext cx="5083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98760" y="2789280"/>
                <a:ext cx="1004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92200" y="5467320"/>
                <a:ext cx="5657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40200" y="2766960"/>
                <a:ext cx="9554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041560" y="3503520"/>
                <a:ext cx="7650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36720" y="3459240"/>
                <a:ext cx="957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486160" y="4129200"/>
                <a:ext cx="7174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04000" y="2741760"/>
                <a:ext cx="7174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1.38889E-006 4.27746E-006 L 0.65069 -0.41017 E">
                                      <p:cBhvr>
                                        <p:cTn id="23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3, 2 – 5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3T12:55:09Z</dcterms:modified>
  <cp:revision>60</cp:revision>
  <dc:subject/>
  <dc:title>Slide 1</dc:title>
</cp:coreProperties>
</file>